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C227-A815-44FE-BC2F-792EF65A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5CC9-5817-4A4F-888A-A6FE1889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D09B-0EA5-4DDE-BC89-280BD10D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524A-49D0-4365-BB5E-95564E74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E30-3B46-4842-AFD8-D968599A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B167-5AAD-4345-88F8-C9C12335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0C2-4FA0-46B2-AD9B-99DB25B8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352A-04D9-4875-9E49-263C6A63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6C6C-A850-498D-98BD-085E8759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49A-E960-4DA7-9160-3DDFE99C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3097-48AB-4634-ADCE-85516C34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3B5-0B0F-4B4F-80B7-F8DEDC1A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64BE-D041-4A31-9CE7-1A3DD26B9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62160" y="3105000"/>
            <a:ext cx="481968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siunea iunie-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13</cp:lastModifiedBy>
  <dcterms:modified xsi:type="dcterms:W3CDTF">2012-06-18T11:35:41Z</dcterms:modified>
  <cp:revision>2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